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34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40.png" ContentType="image/pn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41.jpeg" ContentType="image/jpeg"/>
  <Override PartName="/ppt/media/image6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18.wmf" ContentType="image/x-wmf"/>
  <Override PartName="/ppt/media/image2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E58A-C814-4A48-ABF2-53BA48876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F4F3-4816-47F3-9B5F-66A25672F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21F9-D06B-4A4C-BF9A-D01A1774D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2008-6666-4128-BA18-BB9604C73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6D15-0B6A-43F4-B9A6-3F35AEE4A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4E13-74DC-4209-9850-4A633372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9397-2EDA-4F22-B3A0-F5E7DEDCB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902-0C01-4198-912F-BE588667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E94-60BE-499B-A5F8-73FAAB7D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38C-CA34-4F59-A76A-33CA1802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C3E-A932-4B46-A724-0EF98278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29FA-BFFE-44DD-BB53-D6802387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5F72-DC66-4BD1-BA4D-FCAEDB73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2882-2314-4843-95D0-A7E81DBE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29D2-7D9F-4993-BBB5-8B486952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629-3DA7-422A-9BE0-320BA89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FDD5-52C5-4721-855D-8D8ACDDD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6864-F4BE-4349-9463-16D3165C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894-97EC-4629-83AC-E9DE2F9D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ABE5-BAC0-44C2-AABF-EFCFCCC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8D97-45BE-46B2-9EB4-DC15096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10BB-464A-4322-BA3E-9EDE1027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034B-99F3-4B6E-BB0B-3D54E1F0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386E-0832-4274-98AD-BFBB5173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146-66A0-4E0B-9B71-DCFBB10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953-7978-4051-AAB4-029D7ED2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190-BD9F-4982-A545-3C14D264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378-1655-436D-8422-BAC89600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B5C-2CF1-48B1-8CE6-B7DD3127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348-F50B-44CF-8042-6D6218C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464-2DEB-4F89-BE09-79054AF3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02B5-C159-48B2-8531-25FBD4F450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6BF9-C5DB-4BA0-80B2-E250F5A00F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pn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8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RC MacDonald 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pril 23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RC MacDonald Ele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3" name="Picture 8" descr="MCj03126460000[1]"/>
          <p:cNvPicPr/>
          <p:nvPr/>
        </p:nvPicPr>
        <p:blipFill>
          <a:blip r:embed="rId1"/>
          <a:stretch/>
        </p:blipFill>
        <p:spPr>
          <a:xfrm>
            <a:off x="3635280" y="2276640"/>
            <a:ext cx="2071800" cy="2111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>
            <a:off x="5867280" y="414972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35676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4427640" y="4365720"/>
            <a:ext cx="1191960" cy="120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images3.jpg"/>
          <p:cNvPicPr/>
          <p:nvPr/>
        </p:nvPicPr>
        <p:blipFill>
          <a:blip r:embed="rId5"/>
          <a:stretch/>
        </p:blipFill>
        <p:spPr>
          <a:xfrm>
            <a:off x="468360" y="321300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images.jpg"/>
          <p:cNvPicPr/>
          <p:nvPr/>
        </p:nvPicPr>
        <p:blipFill>
          <a:blip r:embed="rId6"/>
          <a:stretch/>
        </p:blipFill>
        <p:spPr>
          <a:xfrm rot="954000">
            <a:off x="6519600" y="8524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imagesCAKTRLBD.jpg"/>
          <p:cNvPicPr/>
          <p:nvPr/>
        </p:nvPicPr>
        <p:blipFill>
          <a:blip r:embed="rId7"/>
          <a:stretch/>
        </p:blipFill>
        <p:spPr>
          <a:xfrm>
            <a:off x="2843280" y="5322960"/>
            <a:ext cx="1700280" cy="1535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imagesCAOEUU8Y.jpg"/>
          <p:cNvPicPr/>
          <p:nvPr/>
        </p:nvPicPr>
        <p:blipFill>
          <a:blip r:embed="rId8"/>
          <a:stretch/>
        </p:blipFill>
        <p:spPr>
          <a:xfrm>
            <a:off x="4211640" y="981000"/>
            <a:ext cx="2039760" cy="122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imagesCA7FS46N.jpg"/>
          <p:cNvPicPr/>
          <p:nvPr/>
        </p:nvPicPr>
        <p:blipFill>
          <a:blip r:embed="rId9"/>
          <a:stretch/>
        </p:blipFill>
        <p:spPr>
          <a:xfrm rot="1389000">
            <a:off x="7667280" y="53006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2" descr="imagesCAN03YNH.jpg"/>
          <p:cNvPicPr/>
          <p:nvPr/>
        </p:nvPicPr>
        <p:blipFill>
          <a:blip r:embed="rId10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imagesCAOF6IPG.jpg"/>
          <p:cNvPicPr/>
          <p:nvPr/>
        </p:nvPicPr>
        <p:blipFill>
          <a:blip r:embed="rId12"/>
          <a:stretch/>
        </p:blipFill>
        <p:spPr>
          <a:xfrm>
            <a:off x="7596360" y="263700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untitlewd.bmp"/>
          <p:cNvPicPr/>
          <p:nvPr/>
        </p:nvPicPr>
        <p:blipFill>
          <a:blip r:embed="rId13"/>
          <a:stretch/>
        </p:blipFill>
        <p:spPr>
          <a:xfrm rot="20406000">
            <a:off x="1258920" y="9079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imagesCA71CM7J.jpg"/>
          <p:cNvPicPr/>
          <p:nvPr/>
        </p:nvPicPr>
        <p:blipFill>
          <a:blip r:embed="rId14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imagesCAW4N5TV.jpg"/>
          <p:cNvPicPr/>
          <p:nvPr/>
        </p:nvPicPr>
        <p:blipFill>
          <a:blip r:embed="rId15"/>
          <a:stretch/>
        </p:blipFill>
        <p:spPr>
          <a:xfrm>
            <a:off x="1116000" y="4076640"/>
            <a:ext cx="224784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Brigh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900000" y="1557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BartSlrg_twt_reasonably_small.jpg"/>
          <p:cNvPicPr/>
          <p:nvPr/>
        </p:nvPicPr>
        <p:blipFill>
          <a:blip r:embed="rId1"/>
          <a:stretch/>
        </p:blipFill>
        <p:spPr>
          <a:xfrm>
            <a:off x="6156360" y="220500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664d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01040" cy="53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8200" indent="-351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ac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Tube videos, case-based scenarios, teachable mo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images.jpg"/>
          <p:cNvPicPr/>
          <p:nvPr/>
        </p:nvPicPr>
        <p:blipFill>
          <a:blip r:embed="rId2"/>
          <a:stretch/>
        </p:blipFill>
        <p:spPr>
          <a:xfrm>
            <a:off x="3348000" y="0"/>
            <a:ext cx="2736720" cy="103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2987640" y="2924280"/>
            <a:ext cx="58881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74760"/>
            <a:ext cx="7772400" cy="51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83628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acebook? MySpace? Twit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? Smart Phone? Tablet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deo gam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" y="1890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questions we will addres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es it matte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computers are 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loc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 ho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place 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lim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your Children’s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convers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your child about Internet Safety and/or Cyberbully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reate and adopt 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family expect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children around online /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gain a better understanding of ou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ildr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crease ou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waren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potential dangers and challenges around technology u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vide you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ractical, proactive parenting strategi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maintain connections and support your children around healthy technology u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482436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Terminators  - fully integrated be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C:\Users\dsands\AppData\Local\Microsoft\Windows\Temporary Internet Files\Content.IE5\D6IV12U4\MC900434595[1].wmf"/>
          <p:cNvPicPr/>
          <p:nvPr/>
        </p:nvPicPr>
        <p:blipFill>
          <a:blip r:embed="rId1"/>
          <a:stretch/>
        </p:blipFill>
        <p:spPr>
          <a:xfrm>
            <a:off x="2484360" y="4870440"/>
            <a:ext cx="2082960" cy="160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5884920" y="1054080"/>
            <a:ext cx="2374920" cy="341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2-04-23T23:51:20Z</dcterms:modified>
  <cp:revision>85</cp:revision>
  <dc:subject/>
  <dc:title>Technology, kids and you</dc:title>
</cp:coreProperties>
</file>